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F052-9D52-4877-8975-B3531244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FEE7-C492-42F4-82A7-7119B064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6D8C-11BA-4BC1-B0E1-B39E0F2E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C5E6-9AFA-4687-AC43-5AB5F03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376-473C-4630-880A-5FA191C2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85AA-77ED-4761-9BB3-3514435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1B4-09E7-4A4D-8F96-025A10D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0401-0AC3-4FD5-B6CD-17C28EF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6629-5BE7-469D-8D7C-8C30EFB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6077-78AF-41B9-AD31-67D239A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A8B8-E4B4-41AC-85AC-FA9EC0F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1377-BF5B-4497-B70D-B5E4101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EED-2E82-449D-B0A6-2AA71F5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029-4DB0-41E5-B9BA-784009D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A121-7D10-406F-96E1-B6858443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EF3A-074D-463C-8215-67C5A40D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694-454D-4977-B948-652E241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9B3D-19D9-42C3-B6FF-F56CE20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A609-A5E9-45A5-934A-7B3BCF66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5B90-2CE8-4973-A757-CB74B768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6098-4963-4B7B-A65C-A46E9635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B0A6-ACFD-4C1E-A6B3-0DC762ED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F6CE-3F79-4133-9B15-7A49A3E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6EF9-2DA6-47D3-BC73-5E06AEA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90B1-5283-4BC1-8E56-2E8FDCDC88B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F0C-6521-498B-9981-624E3EC569E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08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- туй чудесн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о е със благос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ва то във всяко вре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 любов и радо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1603800"/>
            <a:ext cx="932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лавно е, славно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вярва в туй име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6736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Исусовот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ървим ние все нап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Него ще побед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те врагове навред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1603800"/>
            <a:ext cx="932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лавно е, славно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вярва в туй име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092240"/>
            <a:ext cx="932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лко скъпо за нас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това на наш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 ни то изб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е силен щит з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1603800"/>
            <a:ext cx="932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лавно е, славно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вярва в туй име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181080" y="1071720"/>
            <a:ext cx="93250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ъзпейте вий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гласете го навре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ле целий свят го чу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ще му даде отв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181080" y="1603800"/>
            <a:ext cx="932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лавно е, славно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вярва в туй име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19T08:34:58Z</dcterms:modified>
  <cp:revision>23</cp:revision>
  <dc:subject/>
  <dc:title>Slide 1</dc:title>
</cp:coreProperties>
</file>